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1B31-16C4-46C4-B71B-2D332933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24FA-238F-4F97-A7E5-852F415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E440-8FEF-45E1-8C78-68BF3426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A20C-AA91-4CE4-8DAC-99DAC55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D40-6CC7-4C16-BBA2-2149B025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E69F-2D23-46A3-858F-A517C3FE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794-EC65-431F-BF0D-A5DE7EF7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083-38C8-44FE-A49F-6304C887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C3E8-D8DD-440C-84B0-7F3B333A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815-A583-4090-866F-12F9F13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B304-7738-446F-B3AB-4ACA651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DE42-7A7B-41A8-8997-CFAC899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F7B6-00BF-4F59-84FB-2417331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287-D422-4C72-B911-28702DC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9FF2-060F-4FFD-A297-74BD4A1A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E0E-0A72-4F9F-9D7F-5CD120B9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991D-CA37-4179-830B-5EF3262F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DE94-C8D3-47E4-A590-A2D0580E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4C17-F460-408D-B07D-1135313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0254-7583-40AD-951D-5D954EB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FF45-4956-49B4-A520-2415AF4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72E8-D870-4183-BA8E-CA08B4A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0F9E-16A4-4FB8-A7E4-B75DAC8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EA01-1069-4D5E-A4BC-102B76A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9CE-EA23-4AB8-98C0-74742635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9B2-8F28-427C-A0B8-A4B50096FE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ord Choice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s ______ after my professor extend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paper’s due dat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sy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n cloud n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reliev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, more information is available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re people than ever befo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is point in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n this day and 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, more information is available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re people than ever befo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N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is point in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n this day and 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f you have something to s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n’t act in a shy or hesitant mann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on’t beat around the bus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ay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f you have something to s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n’t act in a shy or hesitant mann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on’t beat around the bus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ay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been working _______ on this project 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ike a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24-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days, nights, and weeken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been working _______ on this project 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ike a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24-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days, nights, and weeken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ng ago, ______ people believ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llness was caused by supernatur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ultitudin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great number o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ng ago, ______ people believ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llness was caused by supernatur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ultitudin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an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great number o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new Will Smith movie i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funny and origi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a bom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 the hi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2388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pecially in college and work writing, it’s important to choose your words carefully. Be aware of the following common problems in word choi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agu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ds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ds that are too general to make an impression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lot, awesome, bad, good, nic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ve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lang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formal language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hi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a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srespec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dy languag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using more words than necessary to get your point across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s a result o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stead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 this point in tim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stead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hés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hrases used so often that people no longer pay attention to them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asier said than d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ork like a do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new Will Smith movie i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funny and origi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a bom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 the hi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t was _______ that Olivia had be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reading those rumors about 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lain as d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crystal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bvi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t was _______ that Olivia had be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reading those rumors about 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lain as d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crystal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obvi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, I’d like to speak with you abo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orrow’s ex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u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ofessor Smi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, I’d like to speak with you abo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orrow’s ex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u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Professor Smi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reworks display last night was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very g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bright, colorful, and earthsha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reworks display last night was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very g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bright, colorful, and earthsha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izza we had last night wa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ery, very b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greasy and undercook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etty terr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izza we had last night wa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ery, very b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greasy and undercook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etty terr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s ______ after my professor extend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paper’s due dat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sy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n cloud n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reliev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7:43:08Z</dcterms:modified>
  <cp:revision>162</cp:revision>
  <dc:subject/>
  <dc:title>Sentence Fragments</dc:title>
</cp:coreProperties>
</file>